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.jpeg" ContentType="image/jpeg"/>
  <Override PartName="/ppt/media/image18.wmf" ContentType="image/x-wmf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EAB-3FC4-4E44-A942-BB29B89F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BD5-25D7-49C1-A4D2-4C917BF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330-2198-4061-95A4-B4CFCD3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759-D0BB-4E9E-82A9-2D99E69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6BD5-B2FF-4D3E-98A2-802B3D13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07D-087D-423A-A958-CC1F464F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CC9-3DA2-4AE6-9FC8-46330135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C382-40A5-43D4-838A-BC889FA6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FFE-3F77-463B-B18E-EBF2EE6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05EF-1E0B-46E7-9569-93B0B4E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70E-D620-4880-B226-C67E5DA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3E3-55A8-48CB-9456-4FF8A81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FB39-8F8D-40D9-A5EF-F1E3931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CD73-09E3-4112-BD78-E64D0CF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640-FB23-45FC-B005-72B24CA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C99-24E8-41B8-B369-0BA213E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F5B8-FA4D-4421-ACB3-BF4C34C3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BF4F-8D64-4350-B3E7-3AAEEBEE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B977-EC6B-4A59-AFEF-C3C33CB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27B7-6233-41AB-800C-7739D85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3792-BDF6-4ED9-AFC3-EB90F68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3D2A-AC4E-4BBC-B9A2-B3020426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533-59A7-4671-8E06-D4E5643E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57A7-E6FE-44E2-B2C4-AB1157E8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078B-C9DC-4F57-96D3-23F82BC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79AC-0F1E-4860-94BA-5FCD470C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5747-5082-45D6-A5BA-5663D97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EC82-8BAB-4078-B029-EDDFF27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E315-CC77-4F71-BE66-1D3C134C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AC80-1DBA-4642-8928-C90F49EF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69D-B14D-4D73-8B27-17BA7FE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2D9-F5A6-4D37-AAAA-AD1A85C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D13-AACE-476E-9CB4-632302E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59B-7E11-43FF-BC5C-DCF398C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D83-7BB7-4B7B-AD5B-08CB01C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BAE-7C73-4076-821A-139BC5D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7F7947-D6F5-44BE-9ACC-6F3E4F65BE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8A1A7-71EA-42FD-8BB6-A7A91DACF2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7B6C35-A7D4-46B8-8252-C7CF1EDE764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142920"/>
            <a:ext cx="9143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f3f0e2"/>
                </a:solidFill>
                <a:latin typeface="Calibri"/>
              </a:rPr>
              <a:t>Реализация российско-белорусских инновационных проектов в рамках деятель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f3f0e2"/>
                </a:solidFill>
                <a:latin typeface="Calibri"/>
              </a:rPr>
              <a:t>Совета делового сотрудничества Санкт-Петербурга и Республики Белару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929040" y="3000240"/>
            <a:ext cx="5214600" cy="31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меститель Председателя Со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анкт-Петербург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оргово-Промышленной пала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Генеральный дир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НПО по переработке пластмасс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«Комсомольской Правды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.И. Цыбуков</a:t>
            </a:r>
            <a:r>
              <a:rPr b="1" lang="ru-RU" sz="2000" spc="-1" strike="noStrike">
                <a:solidFill>
                  <a:srgbClr val="08121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0" y="5857920"/>
            <a:ext cx="9143640" cy="82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Санкт-Петербур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2015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9360" y="642960"/>
            <a:ext cx="9134280" cy="6214680"/>
          </a:xfrm>
          <a:prstGeom prst="rect">
            <a:avLst/>
          </a:prstGeom>
          <a:ln w="9525">
            <a:noFill/>
          </a:ln>
        </p:spPr>
      </p:pic>
      <p:sp>
        <p:nvSpPr>
          <p:cNvPr id="167" name="TextBox 3"/>
          <p:cNvSpPr/>
          <p:nvPr/>
        </p:nvSpPr>
        <p:spPr>
          <a:xfrm>
            <a:off x="0" y="14292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Инновационная инфраструктура предприятий Полимерного кластера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В Полимерном деловом парке «Ком-Пла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C:\Documents and Settings\iramalaya\Рабочий стол\1212.JPG"/>
          <p:cNvPicPr/>
          <p:nvPr/>
        </p:nvPicPr>
        <p:blipFill>
          <a:blip r:embed="rId1"/>
          <a:srcRect l="0" t="9875" r="476" b="0"/>
          <a:stretch/>
        </p:blipFill>
        <p:spPr>
          <a:xfrm>
            <a:off x="1071360" y="1285920"/>
            <a:ext cx="7643520" cy="5214600"/>
          </a:xfrm>
          <a:prstGeom prst="rect">
            <a:avLst/>
          </a:prstGeom>
          <a:ln w="9525">
            <a:noFill/>
          </a:ln>
        </p:spPr>
      </p:pic>
      <p:sp>
        <p:nvSpPr>
          <p:cNvPr id="171" name="TextBox 5"/>
          <p:cNvSpPr/>
          <p:nvPr/>
        </p:nvSpPr>
        <p:spPr>
          <a:xfrm>
            <a:off x="0" y="142920"/>
            <a:ext cx="9143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Россия –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Программы приграничного сотрудничества 2014-2020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Форма идеи крупномасштабного (инфраструктурного)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:\Общие\СЕКРЕТАРЬ\ларина д.в\Денис\02 апр. Общ.педагог.форум в ПГУПСе\заявка2.JPG"/>
          <p:cNvPicPr/>
          <p:nvPr/>
        </p:nvPicPr>
        <p:blipFill>
          <a:blip r:embed="rId1"/>
          <a:stretch/>
        </p:blipFill>
        <p:spPr>
          <a:xfrm>
            <a:off x="1071720" y="285840"/>
            <a:ext cx="6500520" cy="3857400"/>
          </a:xfrm>
          <a:prstGeom prst="rect">
            <a:avLst/>
          </a:prstGeom>
          <a:ln w="9525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2" descr="W:\Общие\СЕКРЕТАРЬ\ларина д.в\Денис\02 апр. Общ.педагог.форум в ПГУПСе\заявка2,1.JPG"/>
          <p:cNvPicPr/>
          <p:nvPr/>
        </p:nvPicPr>
        <p:blipFill>
          <a:blip r:embed="rId3"/>
          <a:srcRect l="0" t="3567" r="0" b="0"/>
          <a:stretch/>
        </p:blipFill>
        <p:spPr>
          <a:xfrm>
            <a:off x="500040" y="4000680"/>
            <a:ext cx="7419600" cy="19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960" cy="6857640"/>
          </a:xfrm>
          <a:prstGeom prst="rect">
            <a:avLst/>
          </a:prstGeom>
          <a:ln w="9525">
            <a:noFill/>
          </a:ln>
        </p:spPr>
      </p:pic>
      <p:sp>
        <p:nvSpPr>
          <p:cNvPr id="180" name="Овал 7"/>
          <p:cNvSpPr/>
          <p:nvPr/>
        </p:nvSpPr>
        <p:spPr>
          <a:xfrm>
            <a:off x="1857240" y="3000240"/>
            <a:ext cx="4428720" cy="5713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1" name="Прямая со стрелкой 9"/>
          <p:cNvCxnSpPr/>
          <p:nvPr/>
        </p:nvCxnSpPr>
        <p:spPr>
          <a:xfrm flipH="1" flipV="1">
            <a:off x="6429240" y="3287520"/>
            <a:ext cx="1357560" cy="35604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2" name="Прямая со стрелкой 10"/>
          <p:cNvCxnSpPr/>
          <p:nvPr/>
        </p:nvCxnSpPr>
        <p:spPr>
          <a:xfrm flipV="1">
            <a:off x="214200" y="3287520"/>
            <a:ext cx="1357560" cy="28440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479480" y="1272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79480" y="31111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42920" y="285840"/>
            <a:ext cx="392868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роект презенто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15 апреля 2015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На заседании Рабочей группы по подготовке программы приграничного сотрудничеств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«Юго-Восточная Финляндия – Россия»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на 2014-2020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В заседании приняли участие члены совместного Программного комитета, представители Минэкономразвития и МИД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W:\Общие\СЕКРЕТАРЬ\ларина д.в\С.И\15 апреля Англетер Рабочая группа ЮВ Финл-Россия\программа.jpg"/>
          <p:cNvPicPr/>
          <p:nvPr/>
        </p:nvPicPr>
        <p:blipFill>
          <a:blip r:embed="rId1"/>
          <a:stretch/>
        </p:blipFill>
        <p:spPr>
          <a:xfrm>
            <a:off x="4286160" y="142920"/>
            <a:ext cx="4723560" cy="657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Камера для комплексных испытаний </a:t>
            </a:r>
            <a:br>
              <a:rPr sz="2500"/>
            </a:b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– климатика, дождь, ультрафиолет, вибрация </a:t>
            </a:r>
            <a:br>
              <a:rPr sz="2500"/>
            </a:b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ANYVIB 20000 C SP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45964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928800" y="1500120"/>
            <a:ext cx="728640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2640" cy="570960"/>
          </a:xfrm>
          <a:prstGeom prst="rect">
            <a:avLst/>
          </a:prstGeom>
          <a:ln w="9525">
            <a:noFill/>
          </a:ln>
        </p:spPr>
      </p:pic>
      <p:sp>
        <p:nvSpPr>
          <p:cNvPr id="195" name="TextBox 7"/>
          <p:cNvSpPr/>
          <p:nvPr/>
        </p:nvSpPr>
        <p:spPr>
          <a:xfrm>
            <a:off x="214200" y="3143160"/>
            <a:ext cx="86436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струкция камеры выполняется таким образом, чтобы подвижный стол вибростенда или расширитель стола, на который устанавливается испытуемое изделие, располагался в отверстии пола камеры. Тепло и гидроизоляция подвижной части стола должна входить в состав вибростенда, который располагается под камер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струкция камеры обеспечивает проведение испытаний при подаче на испытуемое изделие высокого напряж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мера состоит из двух частей: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температурн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ультрафиолетовог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лучен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емпературная камера должна обеспечить проведение климатических испытаний на фрагменте из 5-6 шпал испытываемого объекта воздействием температур от -60 до +60 градусов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мера ультрафиолетового излучения должна обеспечить проведение длительных климатических испытаний на фрагменте из 5 шпал испытываемого образца при помощи специальных галогенных ламп непрерывного и периодического равномерного освещения образ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Расчетная стоимость камеры: 3 770 000 Евр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Таблица 8"/>
          <p:cNvGraphicFramePr/>
          <p:nvPr/>
        </p:nvGraphicFramePr>
        <p:xfrm>
          <a:off x="285840" y="714240"/>
          <a:ext cx="8072280" cy="2412000"/>
        </p:xfrm>
        <a:graphic>
          <a:graphicData uri="http://schemas.openxmlformats.org/drawingml/2006/table">
            <a:tbl>
              <a:tblPr/>
              <a:tblGrid>
                <a:gridCol w="5407560"/>
                <a:gridCol w="2664360"/>
              </a:tblGrid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иапазон температу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°C/+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°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Климатический диапаз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+10°C/+60°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Относительная влаж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@Arial Unicode MS"/>
                        </a:rPr>
                        <a:t>10% ... 9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нутренние размеры, м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00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2500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3500 (Ш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Д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истема водяного охлажд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(при 30°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на вход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0 м³/ча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Номинальная мощность расчет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0-200 кВ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Агрегатные стойки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Агрегатные стойки, м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х2000х2300 (ШхГх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Масса камеры вместе со стойкой электропитания, 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Box 9"/>
          <p:cNvSpPr/>
          <p:nvPr/>
        </p:nvSpPr>
        <p:spPr>
          <a:xfrm>
            <a:off x="0" y="0"/>
            <a:ext cx="771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Технические характери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NGEL duo – литьевая машина для производства крупных изделий"/>
          <p:cNvPicPr/>
          <p:nvPr/>
        </p:nvPicPr>
        <p:blipFill>
          <a:blip r:embed="rId1"/>
          <a:srcRect l="7458" t="11414" r="9178" b="24624"/>
          <a:stretch/>
        </p:blipFill>
        <p:spPr>
          <a:xfrm>
            <a:off x="1357200" y="2143080"/>
            <a:ext cx="7500600" cy="3857400"/>
          </a:xfrm>
          <a:prstGeom prst="rect">
            <a:avLst/>
          </a:prstGeom>
          <a:ln w="9525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214200" y="1143000"/>
            <a:ext cx="8643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ермопластавтоматы фирмы </a:t>
            </a:r>
            <a:r>
              <a:rPr b="1" lang="en-US" sz="1500" spc="-1" strike="noStrike">
                <a:solidFill>
                  <a:srgbClr val="56822e"/>
                </a:solidFill>
                <a:latin typeface="Arial"/>
              </a:rPr>
              <a:t>Engel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120 т для двухцветного литья           – 15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400 т двухцветного литья                  – 32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ем смыкания 900 т для двухцветного литья           – 670 000 Евр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Научно-производственная лаборатория оптоэлектроники и точного лит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214200" y="6072120"/>
            <a:ext cx="8643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ниверсальный блок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0 000 Евр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алей корпуса со сменными встав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:\Общие\СЕКРЕТАРЬ\ларина д.в\Новая папка\Совещания\на экран\29.04.2015\1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90880" cy="5514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05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0" y="0"/>
            <a:ext cx="9143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Центр динамических испытаний транспортной отрас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в рамках ЕАЭ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8459640" y="1000080"/>
            <a:ext cx="684000" cy="696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W:\Общие\СЕКРЕТАРЬ\ларина д.в\Новая папка\Совещания\на экран\29.04.2015\3.JPG"/>
          <p:cNvPicPr/>
          <p:nvPr/>
        </p:nvPicPr>
        <p:blipFill>
          <a:blip r:embed="rId1"/>
          <a:srcRect l="2194" t="0" r="1315" b="44990"/>
          <a:stretch/>
        </p:blipFill>
        <p:spPr>
          <a:xfrm>
            <a:off x="5286240" y="928800"/>
            <a:ext cx="3857400" cy="2082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10" name="Picture 3" descr="W:\Общие\СЕКРЕТАРЬ\ларина д.в\Новая папка\Совещания\на экран\29.04.2015\4.JPG"/>
          <p:cNvPicPr/>
          <p:nvPr/>
        </p:nvPicPr>
        <p:blipFill>
          <a:blip r:embed="rId2"/>
          <a:srcRect l="4971" t="0" r="8385" b="0"/>
          <a:stretch/>
        </p:blipFill>
        <p:spPr>
          <a:xfrm>
            <a:off x="5143680" y="3071880"/>
            <a:ext cx="3999960" cy="3571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1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0" y="0"/>
            <a:ext cx="84294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Центр динамических испытаний транспортной отрасл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в рамках ЕАЭ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000" cy="6966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W:\Общие\СЕКРЕТАРЬ\ларина д.в\Новая папка\Совещания\на экран\29.04.2015\2.JPG"/>
          <p:cNvPicPr/>
          <p:nvPr/>
        </p:nvPicPr>
        <p:blipFill>
          <a:blip r:embed="rId4"/>
          <a:stretch/>
        </p:blipFill>
        <p:spPr>
          <a:xfrm>
            <a:off x="0" y="857160"/>
            <a:ext cx="5143320" cy="5857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7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егапроекты – один из алгорит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развития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1285920" y="17143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algn="r">
              <a:lnSpc>
                <a:spcPct val="10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ладимир Якун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езидент ОАО «РЖД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expertnw.ru/files/ajax/1400588141_c057ebbb856c81944464b9fe0a8ff0d9.jpeg"/>
          <p:cNvPicPr/>
          <p:nvPr/>
        </p:nvPicPr>
        <p:blipFill>
          <a:blip r:embed="rId1"/>
          <a:stretch/>
        </p:blipFill>
        <p:spPr>
          <a:xfrm>
            <a:off x="5429160" y="642960"/>
            <a:ext cx="3444840" cy="2142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95400" y="2771640"/>
            <a:ext cx="9048240" cy="408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3"/>
          <a:stretch/>
        </p:blipFill>
        <p:spPr>
          <a:xfrm>
            <a:off x="7898040" y="0"/>
            <a:ext cx="1245600" cy="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0" y="214200"/>
            <a:ext cx="914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Камера для испытаний на устойчивость к статическому и динамическому воздействию  песка и пыли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SD 9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357800" y="2143080"/>
            <a:ext cx="4642920" cy="3285720"/>
          </a:xfrm>
          <a:prstGeom prst="rect">
            <a:avLst/>
          </a:prstGeom>
          <a:ln w="9525">
            <a:noFill/>
          </a:ln>
        </p:spPr>
      </p:pic>
      <p:sp>
        <p:nvSpPr>
          <p:cNvPr id="220" name="TextBox 8"/>
          <p:cNvSpPr/>
          <p:nvPr/>
        </p:nvSpPr>
        <p:spPr>
          <a:xfrm>
            <a:off x="142920" y="1357200"/>
            <a:ext cx="878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500" spc="-1" strike="noStrike">
                <a:solidFill>
                  <a:srgbClr val="595959"/>
                </a:solidFill>
                <a:latin typeface="Arial"/>
              </a:rPr>
              <a:t>Камера пыли для испытаний на динамическое воздействие пыли и имитация ветровой нагруз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Таблица 11"/>
          <p:cNvGraphicFramePr/>
          <p:nvPr/>
        </p:nvGraphicFramePr>
        <p:xfrm>
          <a:off x="142920" y="2143080"/>
          <a:ext cx="4142880" cy="3304080"/>
        </p:xfrm>
        <a:graphic>
          <a:graphicData uri="http://schemas.openxmlformats.org/drawingml/2006/table">
            <a:tbl>
              <a:tblPr/>
              <a:tblGrid>
                <a:gridCol w="1783080"/>
                <a:gridCol w="2360160"/>
              </a:tblGrid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пазон темп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3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/ +7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вла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= 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потока во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0,5 до 15,00 м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центрация пыли (пес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 г/м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изонталь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ный объём ка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75 000 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енние полезные разме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х5000х3000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ШхГхВ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Box 12"/>
          <p:cNvSpPr/>
          <p:nvPr/>
        </p:nvSpPr>
        <p:spPr>
          <a:xfrm>
            <a:off x="142920" y="5786280"/>
            <a:ext cx="7071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70c0"/>
                </a:solidFill>
                <a:latin typeface="Arial"/>
              </a:rPr>
              <a:t>Расчетная стоимость камеры: 150 000 000 руб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715160" y="0"/>
            <a:ext cx="1428480" cy="87516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12"/>
          <p:cNvSpPr/>
          <p:nvPr/>
        </p:nvSpPr>
        <p:spPr>
          <a:xfrm>
            <a:off x="142920" y="214200"/>
            <a:ext cx="86436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ермопластавтоматы фирмы </a:t>
            </a:r>
            <a:r>
              <a:rPr b="1" lang="ru-RU" sz="1500" spc="-1" strike="noStrike">
                <a:solidFill>
                  <a:srgbClr val="0070c0"/>
                </a:solidFill>
                <a:latin typeface="Arial"/>
              </a:rPr>
              <a:t>ЗАО БСЗ «Атлант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120 т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3 500 000 руб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400 т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4 500 000 руб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-216000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Wingdings" charset="2"/>
              <a:buChar char=""/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илием смыкания 900 т для двухцветного лить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12 500 000 руб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71320" y="1857240"/>
            <a:ext cx="6071760" cy="405612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13"/>
          <p:cNvSpPr/>
          <p:nvPr/>
        </p:nvSpPr>
        <p:spPr>
          <a:xfrm>
            <a:off x="285840" y="6072120"/>
            <a:ext cx="8643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ниверсальный блок для двухцветного лить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 600 000 руб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алей корпуса со сменными встав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479480" y="1272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479480" y="31111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2920" y="285840"/>
            <a:ext cx="450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роект презенто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16 апреля 2015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II Международном форуме «Евразийская экономическая перспектив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который прошел в стенах Президентской библиотеки имени Б.Н. Ельц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ами форума выступили Государственная Дума Федерального Собрания РФ и СПб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5142" t="0" r="0" b="0"/>
          <a:stretch/>
        </p:blipFill>
        <p:spPr>
          <a:xfrm>
            <a:off x="4643280" y="2183400"/>
            <a:ext cx="4343040" cy="4530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4" descr="http://armvesti.ru/wp-content/uploads/2013/11/183198-267x200.jpg"/>
          <p:cNvPicPr/>
          <p:nvPr/>
        </p:nvPicPr>
        <p:blipFill>
          <a:blip r:embed="rId2"/>
          <a:stretch/>
        </p:blipFill>
        <p:spPr>
          <a:xfrm>
            <a:off x="6500880" y="142920"/>
            <a:ext cx="2542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Информационные материал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8459640" y="5468760"/>
            <a:ext cx="684000" cy="696600"/>
          </a:xfrm>
          <a:prstGeom prst="rect">
            <a:avLst/>
          </a:prstGeom>
          <a:ln w="9525">
            <a:noFill/>
          </a:ln>
        </p:spPr>
      </p:pic>
      <p:sp>
        <p:nvSpPr>
          <p:cNvPr id="238" name="TextBox 12"/>
          <p:cNvSpPr/>
          <p:nvPr/>
        </p:nvSpPr>
        <p:spPr>
          <a:xfrm>
            <a:off x="642960" y="1143000"/>
            <a:ext cx="75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и руководителя Рабочей группы Экспертного совета коллегии ВПК, д.т.н., профессора, заслуженного деятеля науки РФ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А. Виногра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мпетенции руководителя в сфере финансов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я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оронная промышленность и российские вузы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витие кадрового потенциала оборон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ышленного комплек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рнал «Инновации» №9 за 2014 г. статья «Системный подход к развитию кадрового потенциала оборонно-промышленного комплек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 СПбГЭУ «Основы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Экспертные площадки</a:t>
            </a:r>
            <a:br>
              <a:rPr sz="2300"/>
            </a:br>
            <a:r>
              <a:rPr b="1" lang="ru-RU" sz="2300" spc="-1" strike="noStrike">
                <a:solidFill>
                  <a:srgbClr val="595959"/>
                </a:solidFill>
                <a:latin typeface="Arial"/>
              </a:rPr>
              <a:t>для обсуждения инновационных проектов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743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2581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42920" y="714240"/>
            <a:ext cx="88578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Дискуссионный экономический клуб «ДИАЛОГИ»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Мировой общественный форум «Диалог Цивилизаций» (октябр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XIX  Международный Форум «РОССИЙСКИЙ ПРОМЫШЛЕННИК» (октябрь 2015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Заседание Совета делового сотрудничества Санкт-Петербурга и Республики Беларусь (сентябр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Петербургский международный экономический форум (июня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Международный экономический симпозиум – 2015 (апрель 2015 г., СПбГУ, Круглый стол «Возможность экономического роста в условиях внешних ограничений»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III Международный форум «Евразийская экономическая перспектива» (апрель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сессия Общественно-педагогического форума «Просвещение в России: традиции и вызовы нового времени» (апрель 2015 г., ПГУПС, секционное заседание «Профориентация в новых экономических и социокультурных условиях: поиск эффективных стратегий» и пленарное заседание).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Петербургский Партнериат, открытие Центра импортозамещения (совместно с Санкт-Петербургским РО Союза машиностроителей России и «ЭкспоФорум-Интернэшнл»), Научно-практическая конференция «Формирование промышленной инфраструктуры в системе ГосЗаказа» (март 2015 г.)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7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650" spc="-1" strike="noStrike">
                <a:solidFill>
                  <a:srgbClr val="000000"/>
                </a:solidFill>
                <a:latin typeface="Calibri"/>
              </a:rPr>
              <a:t>Рабочая встреча директоров предприятий Полимерного кластера с руководителями Центра Национальной Славы России</a:t>
            </a:r>
            <a:r>
              <a:rPr b="0" lang="en-US" sz="165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2714760" y="5715000"/>
            <a:ext cx="6000480" cy="100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Заместитель Председателя Сове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Санкт-Петербургской Торгово-Промышленной палаты, Генеральный директор НПО «КП»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С.И. Цыбуков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143760"/>
            <a:ext cx="371448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Тел/Факс: 542-15-21/ 542-71-48 </a:t>
            </a:r>
            <a:br>
              <a:rPr sz="1500"/>
            </a:br>
            <a:r>
              <a:rPr b="0" lang="ru-RU" sz="1500" spc="-1" strike="noStrike">
                <a:solidFill>
                  <a:srgbClr val="08121f"/>
                </a:solidFill>
                <a:latin typeface="Times New Roman"/>
              </a:rPr>
              <a:t>Сайт: 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h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ttp://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w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ww.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k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p-plant.</a:t>
            </a:r>
            <a:r>
              <a:rPr b="1" lang="en-US" sz="1500" spc="-1" strike="noStrike">
                <a:solidFill>
                  <a:srgbClr val="08121f"/>
                </a:solidFill>
                <a:latin typeface="Times New Roman"/>
              </a:rPr>
              <a:t>r</a:t>
            </a:r>
            <a:r>
              <a:rPr b="1" lang="ru-RU" sz="1500" spc="-1" strike="noStrike">
                <a:solidFill>
                  <a:srgbClr val="08121f"/>
                </a:solidFill>
                <a:latin typeface="Times New Roman"/>
              </a:rPr>
              <a:t>u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C:\Documents and Settings\iramalaya\Рабочий стол\1.JPG"/>
          <p:cNvPicPr/>
          <p:nvPr/>
        </p:nvPicPr>
        <p:blipFill>
          <a:blip r:embed="rId1"/>
          <a:stretch/>
        </p:blipFill>
        <p:spPr>
          <a:xfrm>
            <a:off x="571320" y="642960"/>
            <a:ext cx="81435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12" descr="C:\Documents and Settings\iramalaya\Рабочий стол\2.JPG"/>
          <p:cNvPicPr/>
          <p:nvPr/>
        </p:nvPicPr>
        <p:blipFill>
          <a:blip r:embed="rId2"/>
          <a:stretch/>
        </p:blipFill>
        <p:spPr>
          <a:xfrm>
            <a:off x="571320" y="2428920"/>
            <a:ext cx="8143560" cy="32144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6643440" cy="78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>
            <a:off x="0" y="0"/>
            <a:ext cx="9143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егапроекты – один из алгорит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развития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4480" y="1143000"/>
            <a:ext cx="9029520" cy="3647880"/>
          </a:xfrm>
          <a:prstGeom prst="rect">
            <a:avLst/>
          </a:prstGeom>
          <a:ln w="9525">
            <a:noFill/>
          </a:ln>
        </p:spPr>
      </p:pic>
      <p:sp>
        <p:nvSpPr>
          <p:cNvPr id="133" name="Содержимое 2"/>
          <p:cNvSpPr/>
          <p:nvPr/>
        </p:nvSpPr>
        <p:spPr>
          <a:xfrm>
            <a:off x="4857840" y="5500800"/>
            <a:ext cx="40003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Роман Романюк, Анастасия Шелеп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Эксперт Северо-Зап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20 мая 2014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«Форум глобального российского развит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2"/>
          <a:stretch/>
        </p:blipFill>
        <p:spPr>
          <a:xfrm>
            <a:off x="6572160" y="4786200"/>
            <a:ext cx="2285640" cy="6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Транс-Евразийский пояс развития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6160" y="1143000"/>
            <a:ext cx="4214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Arial"/>
              </a:rPr>
              <a:t>Проект предполагает формирование на территории Сибири и Дальнего Востока важнейших составляющих нового техно-промышленного и социо-культурного уклада. Принципиальными  элементами этого уклада являются интегральная инфраструктурная система (мультиинфраструктура).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Arial"/>
              </a:rPr>
              <a:t>Миссия России как государства-цивилизации сегодня состоит в формировании на евразийском пространстве нового очага генерации мирового общественного богатства на основе интегральной инфраструктуры нового поколения.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4032360" cy="3588840"/>
          </a:xfrm>
          <a:prstGeom prst="rect">
            <a:avLst/>
          </a:prstGeom>
          <a:ln w="9525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14200" y="6072120"/>
            <a:ext cx="784836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0d0d0d"/>
                </a:solidFill>
                <a:latin typeface="Arial"/>
              </a:rPr>
              <a:t>Источник  - доклад президента ОАО «РЖД» В.И. Якунин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0d0d0d"/>
                </a:solidFill>
                <a:latin typeface="Arial"/>
              </a:rPr>
              <a:t>«Транс-Евразийский пояс развития» (ТЕП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Главные черты и принципиальные подходы ТЕПРа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186400" cy="53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3520" indent="-26352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от развития внутренних территорий разных стран на основе проектов развития внутренней инфраструктуры этих стран к развитию этих территорий на основе проектов солидарного развития транс-континентальной инфраструктуры;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ология развития территорий не на основе экономического роста (т.е. роста экономических показателей), а на проектной основе включения этих земель в развитие транс-региональной, транс-страновой и транс-континентальной инфраструктуры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мках этой идеологии экономический рост не упраздняется совсем, а только встает на свое законное место и является подчиненным показателем (и одним из них) успешности реализации проекта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 разных по своей природе типов инфраструктуры (социо-культурной, технологической, инновационной, индустриальной, финансово-инвестиционной, внешней и внутренней безопасности, политической), интегрированных в единый комплекс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8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идарное (т.е. одновременно-совместное, взаимноподдерживающее, согласованное) развитие, прежде всего, тех территорий, которые лежат между концевыми (оконечными) точками этой инфраструктур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50250"/>
          <a:stretch/>
        </p:blipFill>
        <p:spPr>
          <a:xfrm>
            <a:off x="714240" y="3714840"/>
            <a:ext cx="7714800" cy="2857320"/>
          </a:xfrm>
          <a:prstGeom prst="rect">
            <a:avLst/>
          </a:prstGeom>
          <a:ln w="9525">
            <a:noFill/>
          </a:ln>
        </p:spPr>
      </p:pic>
      <p:sp>
        <p:nvSpPr>
          <p:cNvPr id="142" name="TextBox 7"/>
          <p:cNvSpPr/>
          <p:nvPr/>
        </p:nvSpPr>
        <p:spPr>
          <a:xfrm>
            <a:off x="0" y="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Помогает системная р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www.expertnw.ru/files/ajax/1400588593_73e4db28e538ac08756351c5091d5839.jpeg"/>
          <p:cNvPicPr/>
          <p:nvPr/>
        </p:nvPicPr>
        <p:blipFill>
          <a:blip r:embed="rId2"/>
          <a:stretch/>
        </p:blipFill>
        <p:spPr>
          <a:xfrm>
            <a:off x="4429080" y="1000080"/>
            <a:ext cx="3964320" cy="2642760"/>
          </a:xfrm>
          <a:prstGeom prst="rect">
            <a:avLst/>
          </a:prstGeom>
          <a:ln w="0">
            <a:noFill/>
          </a:ln>
        </p:spPr>
      </p:pic>
      <p:sp>
        <p:nvSpPr>
          <p:cNvPr id="144" name="Содержимое 2"/>
          <p:cNvSpPr/>
          <p:nvPr/>
        </p:nvSpPr>
        <p:spPr>
          <a:xfrm>
            <a:off x="785880" y="1000080"/>
            <a:ext cx="3357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ергей Цыбуков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заместитель председателя совета Санкт-Петербург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оргово-промышленной пала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генеральный директор НПО «КП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3"/>
          <a:stretch/>
        </p:blipFill>
        <p:spPr>
          <a:xfrm>
            <a:off x="7898040" y="0"/>
            <a:ext cx="1245600" cy="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47767" r="0" b="0"/>
          <a:stretch/>
        </p:blipFill>
        <p:spPr>
          <a:xfrm>
            <a:off x="714240" y="1000080"/>
            <a:ext cx="7714800" cy="299988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7"/>
          <p:cNvSpPr/>
          <p:nvPr/>
        </p:nvSpPr>
        <p:spPr>
          <a:xfrm>
            <a:off x="0" y="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Помогает системная р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4357800" y="4929120"/>
            <a:ext cx="40003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Роман Романюк, Анастасия Шелеп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Эксперт Северо-Зап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0" i="1" lang="ru-RU" sz="1500" spc="-1" strike="noStrike">
                <a:solidFill>
                  <a:srgbClr val="404040"/>
                </a:solidFill>
                <a:latin typeface="Calibri"/>
              </a:rPr>
              <a:t>20 мая 2014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</a:pPr>
            <a:r>
              <a:rPr b="1" i="1" lang="ru-RU" sz="1500" spc="-1" strike="noStrike">
                <a:solidFill>
                  <a:srgbClr val="404040"/>
                </a:solidFill>
                <a:latin typeface="Calibri"/>
              </a:rPr>
              <a:t>«Форум глобального российского развит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epam-group.ru/content/epam/ru/aboutus/news-and-events/articles/2011/aboutus-ar-10-17-2011/_jcr_content/textarea_container/media_mentioning.img.jpg/1369046698345.jpg"/>
          <p:cNvPicPr/>
          <p:nvPr/>
        </p:nvPicPr>
        <p:blipFill>
          <a:blip r:embed="rId2"/>
          <a:stretch/>
        </p:blipFill>
        <p:spPr>
          <a:xfrm>
            <a:off x="5429160" y="4000680"/>
            <a:ext cx="2857320" cy="81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64609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2" name="Picture 5" descr="&amp;Mcy;&amp;acy;&amp;tcy;&amp;rcy;&amp;icy;&amp;tscy;&amp;acy; &amp;pcy;&amp;rcy;&amp;ocy;&amp;mcy;&amp;ycy;&amp;shcy;&amp;lcy;&amp;iecy;&amp;ncy;&amp;ncy;&amp;ocy;&amp;jcy; &amp;pcy;&amp;ocy;&amp;lcy;&amp;icy;&amp;tcy;&amp;icy;&amp;kcy;&amp;icy;"/>
          <p:cNvPicPr/>
          <p:nvPr/>
        </p:nvPicPr>
        <p:blipFill>
          <a:blip r:embed="rId1"/>
          <a:srcRect l="0" t="4111" r="0" b="0"/>
          <a:stretch/>
        </p:blipFill>
        <p:spPr>
          <a:xfrm>
            <a:off x="0" y="50004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0" y="-27000"/>
            <a:ext cx="9143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Матрица промышлен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0" y="6524640"/>
            <a:ext cx="910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Источник - Минпромто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4284720" y="1557360"/>
            <a:ext cx="4858920" cy="358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rcRect l="55952" t="32008" r="20157" b="33863"/>
          <a:stretch/>
        </p:blipFill>
        <p:spPr>
          <a:xfrm>
            <a:off x="214200" y="1428840"/>
            <a:ext cx="4071600" cy="4285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142920" y="5786280"/>
            <a:ext cx="38574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Источник  - доклад президента ОАО «РЖД» В.И. Якунин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«Транс-Евразийский пояс развития» (ТЕП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429080" y="2286000"/>
            <a:ext cx="4465440" cy="3168360"/>
          </a:xfrm>
          <a:prstGeom prst="rect">
            <a:avLst/>
          </a:prstGeom>
          <a:noFill/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286160" y="1579680"/>
            <a:ext cx="4857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Специализированные индустриальные па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573440" y="3508200"/>
            <a:ext cx="2087280" cy="649080"/>
          </a:xfrm>
          <a:prstGeom prst="rect">
            <a:avLst/>
          </a:prstGeom>
          <a:solidFill>
            <a:srgbClr val="99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иниринговые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6805440" y="3508200"/>
            <a:ext cx="2015640" cy="649080"/>
          </a:xfrm>
          <a:prstGeom prst="rect">
            <a:avLst/>
          </a:prstGeom>
          <a:solidFill>
            <a:srgbClr val="99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овационная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4502160" y="4446720"/>
            <a:ext cx="4319280" cy="791640"/>
          </a:xfrm>
          <a:prstGeom prst="rect">
            <a:avLst/>
          </a:prstGeom>
          <a:solidFill>
            <a:srgbClr val="ccccff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тер разработчиков-поставщиков технических изделий для «РЖД», машиностроения, судостро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4573440" y="2502000"/>
            <a:ext cx="4247640" cy="647280"/>
          </a:xfrm>
          <a:prstGeom prst="rect">
            <a:avLst/>
          </a:prstGeom>
          <a:solidFill>
            <a:srgbClr val="ffcc99"/>
          </a:solidFill>
          <a:ln w="254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енная и инженерная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0" y="0"/>
            <a:ext cx="91436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Интеграция инфраструктур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в рамках Транс-Евразийского пояса развит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с кластерами и предприятиями СП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143240" y="5786280"/>
            <a:ext cx="52146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Источник - второй международный форум «Евразийская экономическая перспектива»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500" spc="-1" strike="noStrike">
                <a:solidFill>
                  <a:srgbClr val="262626"/>
                </a:solidFill>
                <a:latin typeface="Arial"/>
              </a:rPr>
              <a:t>СПб ГЭУ, при поддержке  Государственной Думы  Р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  <Words>893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9:06:49Z</dcterms:created>
  <dc:creator>denis</dc:creator>
  <dc:description/>
  <dc:language>en-US</dc:language>
  <cp:lastModifiedBy>Ирина Химина</cp:lastModifiedBy>
  <dcterms:modified xsi:type="dcterms:W3CDTF">2015-05-08T12:16:05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